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5B8-52EF-4A0C-96E9-70E8AEB7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9F1-1AFE-47D0-A159-6E35BF15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06A-4EF6-4844-A2C2-45781890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3D4-3EB4-485E-A9F0-061F8666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997A-5B73-40C3-AFA4-C51EA022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CB48-93DE-44C0-84F6-975F6828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10DF-E20A-4264-831A-387479AE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B1DE-51DE-4013-AC73-C3639253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37E8-7B99-4584-A115-FA69024D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926F-7593-4EA6-9FEE-3346DAB6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B880-5DAA-4B71-A8D8-0B38AA13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98D0-7B26-4F40-8A30-2BF93A83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5A7F-3D0E-43FD-A680-9AB6C705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FF76-AADC-412F-A57A-77652DA8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BA02-D406-4635-B49D-A649BF85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FD38-96A8-41AC-A3DF-938039E8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A256-6AA5-47AB-9263-AC1EDFBE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BB417-BA78-445C-8F9B-D40AF7B8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3EFA1-C9F1-4E86-89EE-10FA4C0A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F941-731F-46D1-835E-2F7FBADB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61680-6BF5-419A-A249-B3480765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051C-9D3D-4E16-A51C-4E0B9D87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123-760C-44F3-981F-2CB3938A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D149B-8F92-4399-8FE4-AF51F404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A6428-943A-4FAC-829C-F105C141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8800-73EC-41D5-9E15-7341052E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CBE0C-AD7F-4DC2-98A8-78D414D2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E9A19-794B-47E5-BFEA-AE338905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8C755-CACE-41B6-9798-E3B227B6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491F0-8AA5-451F-8A2A-C92C48FC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1B5-4C27-47E6-8E4C-E7281293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7EA-ED24-44F0-8147-83DC22E3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10B-49FF-4C18-BBBE-570004E0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87F-1C0D-4F5F-A778-739184F2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D52-4C1C-462C-92F1-E8C4ADB4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0F7-8868-4D56-A8C7-DCC51424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A43E-0E12-4DE9-BFA3-1417FF5CE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A492-02B5-4BF9-A711-7DA08E97376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6692-2DED-4F2C-B84A-A0171976EE8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Word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2666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Who or What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4267080"/>
            <a:ext cx="1571400" cy="1370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324480" y="3809880"/>
            <a:ext cx="1521000" cy="179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85800" y="914400"/>
            <a:ext cx="119844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11896" t="21875" r="10468" b="11914"/>
          <a:stretch/>
        </p:blipFill>
        <p:spPr>
          <a:xfrm>
            <a:off x="685800" y="1295280"/>
            <a:ext cx="75722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rcRect l="10231" t="21575" r="11534" b="136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rcRect l="9375" t="18282" r="10866" b="136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rcRect l="9375" t="21644" r="11147" b="100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rcRect l="9290" t="23022" r="10973" b="8765"/>
          <a:stretch/>
        </p:blipFill>
        <p:spPr>
          <a:xfrm>
            <a:off x="609480" y="1219320"/>
            <a:ext cx="76154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rcRect l="9095" t="35635" r="9191" b="6250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rcRect l="10051" t="27426" r="12291" b="20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rcRect l="9515" t="19218" r="11007" b="15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rcRect l="10682" t="20290" r="10822" b="11988"/>
          <a:stretch/>
        </p:blipFill>
        <p:spPr>
          <a:xfrm>
            <a:off x="228600" y="228600"/>
            <a:ext cx="87631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rcRect l="9412" t="18150" r="11051" b="13233"/>
          <a:stretch/>
        </p:blipFill>
        <p:spPr>
          <a:xfrm>
            <a:off x="0" y="587520"/>
            <a:ext cx="9137520" cy="5779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867280" y="2133720"/>
            <a:ext cx="304920" cy="190440"/>
          </a:xfrm>
          <a:prstGeom prst="borderCallout2">
            <a:avLst>
              <a:gd name="adj1" fmla="val 18750"/>
              <a:gd name="adj2" fmla="val -8333"/>
              <a:gd name="adj3" fmla="val 60000"/>
              <a:gd name="adj4" fmla="val -25000"/>
              <a:gd name="adj5" fmla="val 140000"/>
              <a:gd name="adj6" fmla="val -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9166" t="20003" r="10835" b="111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0302840" y="7315200"/>
            <a:ext cx="60480" cy="46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5537160" y="5867280"/>
            <a:ext cx="60480" cy="46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3"/>
          <a:srcRect l="16119" t="31732" r="11250" b="743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rcRect l="8594" t="19791" r="10155" b="13540"/>
          <a:stretch/>
        </p:blipFill>
        <p:spPr>
          <a:xfrm>
            <a:off x="533520" y="990720"/>
            <a:ext cx="79246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9166" t="20003" r="10835" b="111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rcRect l="9796" t="18287" r="11287" b="134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rcRect l="9515" t="18282" r="10866" b="12874"/>
          <a:stretch/>
        </p:blipFill>
        <p:spPr>
          <a:xfrm>
            <a:off x="-30240" y="0"/>
            <a:ext cx="9174240" cy="6975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209556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8333"/>
              <a:gd name="adj5" fmla="val 43750"/>
              <a:gd name="adj6" fmla="val -83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rcRect l="9497" t="23051" r="11121" b="10226"/>
          <a:stretch/>
        </p:blipFill>
        <p:spPr>
          <a:xfrm>
            <a:off x="228600" y="914400"/>
            <a:ext cx="77421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9419" t="23460" r="10962" b="10866"/>
          <a:stretch/>
        </p:blipFill>
        <p:spPr>
          <a:xfrm>
            <a:off x="181080" y="0"/>
            <a:ext cx="8886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rcRect l="9279" t="32977" r="10962" b="103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6:46:19Z</dcterms:created>
  <dc:creator>falcon19</dc:creator>
  <dc:description/>
  <dc:language>en-US</dc:language>
  <cp:lastModifiedBy>Patrick J. Mooney</cp:lastModifiedBy>
  <dcterms:modified xsi:type="dcterms:W3CDTF">2011-03-10T15:25:19Z</dcterms:modified>
  <cp:revision>9</cp:revision>
  <dc:subject/>
  <dc:title>Slide 1</dc:title>
</cp:coreProperties>
</file>